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1B54C-EC89-4B9D-BB0C-CF4D26F6F38E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2415A-4DE5-4168-9B50-7A49437D45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32D17-F24C-4124-9CC6-D3EB6E025A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A2E15-7502-4116-B07E-6B2C78D8014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840DF-C381-4E7A-BC60-3E054B954B1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CE76-07E7-4FA2-BE32-E68AB3EA4C4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A796-D80E-44A8-A6ED-D297C4D89C2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29F9E-A096-4574-8E58-C3578D0A1A7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9749F-0BEB-4A9A-8A25-DAC7CDA05B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C3547-A861-4893-B269-54FBD4B41D0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9859-9FE2-49E1-BADA-9F0FB2A3BB1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1) Nommez moi les jouets avec lesquels vous avez joué quand vous étiez enf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0556B-7C8D-4AAC-B8C4-F7F2C372FD0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es commentaires sur ce que les gens mangent est devenue toléré, accep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e faire taquiner sur son poids = un autre facteur de risque à développer un T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Faites attention lorsque vous portez un jugement sur quelqu’un à propos de son apparence… ça peut aller lo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6CCB-5CF4-4BFB-B6E1-179D63322B7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4539B-4065-4846-A052-AF27B82FE9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503A1-CF3A-4616-A652-7CB993D5331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lusieurs célébrités ont dû se défendre suite aux critiques des médias concernant leur cor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iscussion sur 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7ED63-DD03-470D-9E79-6AB5D0FA01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27368-BCB2-4A16-BEB5-073B197DDB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1) Présentation du site web de l’ANEB Québec (plus précisément du volet adolesc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B5CA-B82D-4AF4-BD18-BA0F65F9C1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02816-7901-4E58-A659-99032BEFAE2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C6998-3ADD-42CA-BE46-DE066DAFAE7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A67E7-A197-440E-A040-415B3516A25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6102F-D945-4E70-8BD3-0AE2C5D0293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EB89-06A5-4E63-ACB7-14CA234DE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AEF2-2296-49E9-9A2C-38E837D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628D-7718-464C-A51A-2E8AFFF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BAFF-14F3-4318-BC3C-7A9B36DAE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D575-8EE2-4F55-A5E1-D83BCAA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B351-4803-41DC-A254-0DB8527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BDCB-45F6-472F-BF19-8A9A430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C3F1-C71E-4F22-8B20-F2F554C1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7B88-0174-4C5C-A6D7-2C7CB68F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37C3-D97E-4B57-AC2F-CD20A8A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A64E-9C0C-40B3-B2A4-AC512314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AFE4-531E-4FEE-9BAB-7DA1CED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E5868-86C4-475A-AFC4-0CC1EC4E05C9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ebquebe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44800" y="463680"/>
            <a:ext cx="4735440" cy="601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Britannic Bold"/>
              </a:rPr>
              <a:t>L’obsession du cor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3857760"/>
            <a:ext cx="640080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nférencière: Anne-Marie Bér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NEB Qué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404040"/>
                </a:solidFill>
                <a:latin typeface="Calibri"/>
              </a:rPr>
              <a:t>Gatin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404040"/>
                </a:solidFill>
                <a:latin typeface="Calibri"/>
              </a:rPr>
              <a:t>6 nov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Des faits préoccup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40% des fillettes entre 9 et 10 ans tenteraient de perdre du poid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55% des fillettes de 8 à 10 ans seraient insatisfaites de leur tail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Jusqu’à 21% des fillettes de 5 ans s’inquiéteraient de leur poid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Jusqu’à 60% des adolescentes seraient insatisfaites de leur corps.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Société Canadienne de Pédiatrie, 2003; Thompson, 2004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18% des athlètes démontrent des symptômes d’un trouble alimentai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Les athlètes insatisfaits de leur masse musculaire sont plus à risque d’utiliser des stéroïdes anabolis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(American Psychological Association, 2003)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8880" y="1600200"/>
            <a:ext cx="67579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Il y a trente ans, le mannequin moyen était 8% en dessous du poids naturel moyen d’une fe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De nos jours, le mannequin moyen est 23% en dessous du poids naturel moyen d’une fe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Journal of Social and Clinical Psychology, 2005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retouch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28880" y="35712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99% des photos retrouvé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dans les revues so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retouché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Lynch, 2007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diè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Pourta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Le comportement qui nous rend le plus à risque de développer un trouble alimentaire est d’</a:t>
            </a:r>
            <a:r>
              <a:rPr b="1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entreprendre un régime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Les adolescentes qui suivent un régime sont plus à risque d’avoir un surpoids à l’âge adu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95% des personnes à la diète reprendront le poids per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chirurgies esthétiqu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Des faits préoccup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28880" y="1714680"/>
            <a:ext cx="6757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Entre 1997 et 2008, le nombre d’opérations en chirurgie esthétique a bondi de 304%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La liposuccion et l’augmentation mammaire sont les procédures les plus populaires chez les fem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Les standards de beauté féminins actuels poussent les femmes vers la chirurgie esthétiqu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Calibri"/>
                <a:ea typeface="Arial"/>
              </a:rPr>
              <a:t>(Harrison, 2003; American Society for Aesthetic Plastic Surgery, 2009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14200"/>
            <a:ext cx="8507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Le souci de l’apparenc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Ça commenc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à l’</a:t>
            </a:r>
            <a:r>
              <a:rPr b="0" lang="fr-CA" sz="5400" spc="-1" strike="noStrike">
                <a:solidFill>
                  <a:srgbClr val="000000"/>
                </a:solidFill>
                <a:latin typeface="Rage Italic"/>
              </a:rPr>
              <a:t>adolescence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Britannic Bold"/>
              </a:rPr>
              <a:t>L’intimidation du corp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28880" y="428760"/>
            <a:ext cx="67579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Avez-vous déjà été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témoin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ou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victime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d’intimidation du cor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Avez-vous déjà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intimidé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quelqu’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28880" y="428760"/>
            <a:ext cx="67579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Les adolescent(e)s victim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’intimidation par rapport à le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CORPS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sont plus à risque d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évelopper un trouble alimentair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e faire de l’exercice à excès 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’être insatisfait(e)s de leur corp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Lunde, 2009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0040" y="190440"/>
            <a:ext cx="8186760" cy="13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Britannic Bold"/>
              </a:rPr>
              <a:t>Les débats sur le poids:</a:t>
            </a:r>
            <a:br>
              <a:rPr sz="4000"/>
            </a:br>
            <a:r>
              <a:rPr b="0" lang="fr-CA" sz="4000" spc="-1" strike="noStrike">
                <a:solidFill>
                  <a:srgbClr val="000000"/>
                </a:solidFill>
                <a:latin typeface="Britannic Bold"/>
              </a:rPr>
              <a:t>que sont devenus nos repè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143160" y="1974960"/>
            <a:ext cx="2857680" cy="3882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2853000" cy="385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72120" y="1976400"/>
            <a:ext cx="2857680" cy="38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Britannic Bold"/>
              </a:rPr>
              <a:t>Promouvoir la diversité corporell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Promouvoir la diversité corporelle dans nos interven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ais ava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l faut s’interroger sur la perception que nous avons de notre propre corp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Questions à se po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Ai-je déjà suivi un rég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Pour quelle rai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Que signifie pour moi: la minc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Lorsque je prends quelques kilos… quelle est mon attitude, mes sentiments associ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952640" cy="25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ne charte: u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6 octobr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Charte québécoise pour une image corporelle saine et divers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7 lignes direc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Visant la promotion d’une image corporelle positive et de saines habitudes aliment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L’ANEB Québec appu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L’obsession du corps dans les médi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le développement des troubles du comportement alimentaire (TCA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 li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Market"/>
              </a:rPr>
              <a:t>Le continuum de gravité d’une relation dysfonctionnelle à la nourr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809880"/>
            <a:ext cx="8305920" cy="180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36080" y="4191120"/>
            <a:ext cx="18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Insatisf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corpor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51040" y="2703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438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Préoccu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par rapport au po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et à l’al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800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Début 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restriction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de l’exerc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Régimes chro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4956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Ali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Dysfonctionnel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Forte"/>
              <a:buAutoNum type="arabi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Régimes sévères (restriction)</a:t>
            </a: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Forte"/>
              <a:buAutoNum type="arabi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Frénésie (compulsion)</a:t>
            </a: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32767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3959280"/>
            <a:ext cx="1440" cy="84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28800" y="388260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882600"/>
            <a:ext cx="14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8954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Tro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Ali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36828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’obsession du corps dans les médias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et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es troubles du comportement alimentaire (TCA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Calibri"/>
              </a:rPr>
              <a:t>Les facteurs culturels et T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acteurs prédisposant, de risqu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parmi d’autres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(biologiques, psychologiques et familiaux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nforçateurs positifs aux idées obssessives et irrationnelles (ex. minceur = bonheur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Influence non-négligeable chez les personnes vulnérables (Ex. adolescent(e)s, faible estime de soi, perfectionnistes, etc.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as l’unique facteur de développement des 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À l’adolescen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ff5050"/>
                </a:solidFill>
                <a:latin typeface="Calibri"/>
              </a:rPr>
              <a:t>L’univers médiatique: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 Un monde fascin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ff5050"/>
                </a:solidFill>
                <a:latin typeface="Calibri"/>
              </a:rPr>
              <a:t>Internet, télévision/télé-réalités, groupes musicaux (vidéoclips), magazines, publicité, ciné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monde qui fait rêver mais… que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deux modèles présent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a femme m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’homme musc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472428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Quelques faits sur les T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68280"/>
            <a:ext cx="822960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hez les adolescentes, le trouble alimentaire arrive au troisième rang des maladies chroniques (Société canadienne de pédiatrie, 200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plupart des cas, l’anorexie débute vers l’age de 12 -13 ans tandis que la boulimie débute plutôt vers 17-18 ans (Pomerleau, 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n’est plus rare de voir des enfants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9 a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être hospitalisés au CHU Ste-Justine pour un problème d’anorex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ieurs études confirment que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obsession de la minceur et l’intimidation envers le surpoids sont des facteurs de risque importants dans le développement d’un trouble alimentaire chez les jeunes, surtout lors de la puber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-1487520"/>
            <a:ext cx="6757920" cy="9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LSensibilisation et prévention</a:t>
            </a:r>
            <a:br>
              <a:rPr sz="3600"/>
            </a:b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Site web de l’ANEB Québec</a:t>
            </a:r>
            <a:r>
              <a:rPr b="0" lang="fr-CA" sz="36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www.anebquebec.com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Conférences disponibles: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CA" sz="3600" spc="-1" strike="noStrike">
                <a:solidFill>
                  <a:srgbClr val="4f81bd"/>
                </a:solidFill>
                <a:latin typeface="Calibri"/>
                <a:ea typeface="Arial"/>
              </a:rPr>
              <a:t>l’obsession de la minceur</a:t>
            </a:r>
            <a:br>
              <a:rPr sz="3600"/>
            </a:br>
            <a:r>
              <a:rPr b="0" lang="en-CA" sz="3600" spc="-1" strike="noStrike">
                <a:solidFill>
                  <a:srgbClr val="1f497d"/>
                </a:solidFill>
                <a:latin typeface="Calibri"/>
                <a:ea typeface="Arial"/>
              </a:rPr>
              <a:t>l’image corporelle</a:t>
            </a:r>
            <a:br>
              <a:rPr sz="3600"/>
            </a:br>
            <a:r>
              <a:rPr b="0" lang="en-CA" sz="3600" spc="-1" strike="noStrike">
                <a:solidFill>
                  <a:srgbClr val="0000ff"/>
                </a:solidFill>
                <a:latin typeface="Calibri"/>
                <a:ea typeface="Arial"/>
              </a:rPr>
              <a:t>l’estime de s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92120" y="266760"/>
            <a:ext cx="3008160" cy="10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Britannic Bold"/>
              </a:rPr>
              <a:t>Quels sont les mess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040" y="1428840"/>
            <a:ext cx="300024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Moyens pour amincir et tonifier le cor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erdre du poids en peu de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romotion de produits de be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iètes à succè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hoto représentant ce qu’est une femme en santé et en be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0120" y="285840"/>
            <a:ext cx="4605120" cy="621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28880" y="21420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94% des actrices favor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des jeunes filles sont 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dessous de leur poi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natur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(Gonzalez-Lavin et Smolack, 1995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28880" y="21420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Les adolescentes qu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visionnent des vidéos 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musique affirment êt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moins satisfaites de l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appar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(Hofschire &amp; Greenberg, 2002)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8880" y="1357200"/>
            <a:ext cx="6757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Voir seulement 3 minutes d’images de mannequins très minces augmentent les sentiments de dépression, de honte, de culpabilité, d’insécurité, de stress et d’in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Plus les médias présentent la minceur comme idéal de beauté, plus les jeunes filles sont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à risque de se restreindre dans leur alimentation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et d’avoir des comportements boulim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(Stice et Shaw, 1994; Botta, 2003; Becker et al., 2002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e</dc:creator>
  <dc:description/>
  <dc:language>en-US</dc:language>
  <cp:lastModifiedBy>Fernanda</cp:lastModifiedBy>
  <dcterms:modified xsi:type="dcterms:W3CDTF">2013-01-13T19:33:48Z</dcterms:modified>
  <cp:revision>1</cp:revision>
  <dc:subject/>
  <dc:title>L’obsession du corps</dc:title>
</cp:coreProperties>
</file>